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4F2C-AED8-4221-B7C0-23E31EEB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4A7-1747-4E76-B623-29C091B39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1DA-E7C1-403D-9E8F-F158DD8D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504D-158C-47B4-86AB-066B702B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CEB3-7648-4FB0-9335-674868ED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51F-8551-4672-AE3E-8A9E9369B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783F-784F-4186-8BC1-5DB2AD1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9FC-3475-40AB-A69C-4952F4C0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B5A-0F45-47B6-B54D-D9544575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78D4-9C60-4D63-B57D-9D221130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7DAC-B7C4-48B7-9028-A722FD28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5CA4-0D04-44D9-830A-5CAD3971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4103-B289-4611-967A-0CA7898B3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ícerozměrné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ynamické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ole pointe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374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*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3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79640" y="2708280"/>
            <a:ext cx="1584360" cy="649440"/>
            <a:chOff x="1979640" y="2708280"/>
            <a:chExt cx="1584360" cy="649440"/>
          </a:xfrm>
        </p:grpSpPr>
        <p:sp>
          <p:nvSpPr>
            <p:cNvPr id="45" name=""/>
            <p:cNvSpPr/>
            <p:nvPr/>
          </p:nvSpPr>
          <p:spPr>
            <a:xfrm>
              <a:off x="1979640" y="2708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509560" y="2708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36960" y="2708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3780000" y="1484280"/>
            <a:ext cx="0" cy="4824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71640" y="1916280"/>
            <a:ext cx="4572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7440" y="56610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065480" y="5661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84464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35280" y="2349360"/>
            <a:ext cx="1866240" cy="382680"/>
            <a:chOff x="1835280" y="2349360"/>
            <a:chExt cx="1866240" cy="382680"/>
          </a:xfrm>
        </p:grpSpPr>
        <p:sp>
          <p:nvSpPr>
            <p:cNvPr id="54" name=""/>
            <p:cNvSpPr/>
            <p:nvPr/>
          </p:nvSpPr>
          <p:spPr>
            <a:xfrm>
              <a:off x="1835280" y="23493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0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5960" y="236376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981160" y="2357280"/>
              <a:ext cx="72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2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4356000" y="148428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(int*)malloc(sizeof(int)*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56000" y="191628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(int*)malloc(sizeof(int)*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63920" y="236844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(int*)malloc(sizeof(int)*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4500720" y="4869000"/>
            <a:ext cx="2286000" cy="571320"/>
            <a:chOff x="4500720" y="4869000"/>
            <a:chExt cx="2286000" cy="571320"/>
          </a:xfrm>
        </p:grpSpPr>
        <p:grpSp>
          <p:nvGrpSpPr>
            <p:cNvPr id="61" name=""/>
            <p:cNvGrpSpPr/>
            <p:nvPr/>
          </p:nvGrpSpPr>
          <p:grpSpPr>
            <a:xfrm>
              <a:off x="4500720" y="4869000"/>
              <a:ext cx="1373400" cy="571320"/>
              <a:chOff x="4500720" y="4869000"/>
              <a:chExt cx="1373400" cy="571320"/>
            </a:xfrm>
          </p:grpSpPr>
          <p:sp>
            <p:nvSpPr>
              <p:cNvPr id="62" name=""/>
              <p:cNvSpPr/>
              <p:nvPr/>
            </p:nvSpPr>
            <p:spPr>
              <a:xfrm>
                <a:off x="4500720" y="486900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60080" y="486900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417280" y="486900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29520" y="486900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872320" y="486900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7" name=""/>
          <p:cNvCxnSpPr/>
          <p:nvPr/>
        </p:nvCxnSpPr>
        <p:spPr>
          <a:xfrm>
            <a:off x="1441440" y="2201400"/>
            <a:ext cx="526320" cy="61668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68" name=""/>
          <p:cNvCxnSpPr>
            <a:stCxn id="46" idx="2"/>
            <a:endCxn id="69" idx="1"/>
          </p:cNvCxnSpPr>
          <p:nvPr/>
        </p:nvCxnSpPr>
        <p:spPr>
          <a:xfrm flipH="1" rot="16200000">
            <a:off x="3110760" y="3031920"/>
            <a:ext cx="978480" cy="1654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0" name=""/>
          <p:cNvCxnSpPr>
            <a:stCxn id="45" idx="2"/>
            <a:endCxn id="62" idx="1"/>
          </p:cNvCxnSpPr>
          <p:nvPr/>
        </p:nvCxnSpPr>
        <p:spPr>
          <a:xfrm flipH="1" rot="16200000">
            <a:off x="2472480" y="3139920"/>
            <a:ext cx="1784880" cy="22453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71" name=""/>
          <p:cNvCxnSpPr>
            <a:stCxn id="47" idx="2"/>
            <a:endCxn id="72" idx="1"/>
          </p:cNvCxnSpPr>
          <p:nvPr/>
        </p:nvCxnSpPr>
        <p:spPr>
          <a:xfrm flipH="1" rot="16200000">
            <a:off x="3756600" y="2912760"/>
            <a:ext cx="200520" cy="11149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73" name=""/>
          <p:cNvGrpSpPr/>
          <p:nvPr/>
        </p:nvGrpSpPr>
        <p:grpSpPr>
          <a:xfrm>
            <a:off x="4427640" y="4076640"/>
            <a:ext cx="1373040" cy="571680"/>
            <a:chOff x="4427640" y="4076640"/>
            <a:chExt cx="1373040" cy="571680"/>
          </a:xfrm>
        </p:grpSpPr>
        <p:sp>
          <p:nvSpPr>
            <p:cNvPr id="74" name=""/>
            <p:cNvSpPr/>
            <p:nvPr/>
          </p:nvSpPr>
          <p:spPr>
            <a:xfrm>
              <a:off x="4427640" y="407664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86640" y="407664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43840" y="407664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427640" y="3284640"/>
            <a:ext cx="1828800" cy="571320"/>
            <a:chOff x="4427640" y="3284640"/>
            <a:chExt cx="1828800" cy="571320"/>
          </a:xfrm>
        </p:grpSpPr>
        <p:grpSp>
          <p:nvGrpSpPr>
            <p:cNvPr id="78" name=""/>
            <p:cNvGrpSpPr/>
            <p:nvPr/>
          </p:nvGrpSpPr>
          <p:grpSpPr>
            <a:xfrm>
              <a:off x="4427640" y="3284640"/>
              <a:ext cx="1373400" cy="571320"/>
              <a:chOff x="4427640" y="3284640"/>
              <a:chExt cx="1373400" cy="571320"/>
            </a:xfrm>
          </p:grpSpPr>
          <p:sp>
            <p:nvSpPr>
              <p:cNvPr id="72" name=""/>
              <p:cNvSpPr/>
              <p:nvPr/>
            </p:nvSpPr>
            <p:spPr>
              <a:xfrm>
                <a:off x="4427640" y="328464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887000" y="3284640"/>
                <a:ext cx="45720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344200" y="328464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5799240" y="328464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7020000" y="3213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20000" y="357336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020000" y="3933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093080" y="4581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093080" y="4941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93080" y="530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3860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[2]=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35640" y="4941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4365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[0]=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427640" y="414972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79640" y="1773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18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1800" spc="-1" strike="noStrike">
                <a:solidFill>
                  <a:srgbClr val="993300"/>
                </a:solidFill>
                <a:latin typeface="Tahoma"/>
              </a:rPr>
              <a:t>čet řád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1834920" y="1483920"/>
            <a:ext cx="360360" cy="360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2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0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r na 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1773360"/>
            <a:ext cx="0" cy="453528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2708280"/>
            <a:ext cx="45720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7800" y="566100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1480" y="5661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708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8360" y="1052640"/>
            <a:ext cx="3743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(*p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[4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95" idx="3"/>
            <a:endCxn id="101" idx="1"/>
          </p:cNvCxnSpPr>
          <p:nvPr/>
        </p:nvCxnSpPr>
        <p:spPr>
          <a:xfrm>
            <a:off x="1657080" y="2994120"/>
            <a:ext cx="1246680" cy="1008720"/>
          </a:xfrm>
          <a:prstGeom prst="bentConnector3">
            <a:avLst>
              <a:gd name="adj1" fmla="val 49913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102" name=""/>
          <p:cNvGrpSpPr/>
          <p:nvPr/>
        </p:nvGrpSpPr>
        <p:grpSpPr>
          <a:xfrm>
            <a:off x="2916360" y="3284640"/>
            <a:ext cx="5530680" cy="1512720"/>
            <a:chOff x="2916360" y="3284640"/>
            <a:chExt cx="5530680" cy="1512720"/>
          </a:xfrm>
        </p:grpSpPr>
        <p:grpSp>
          <p:nvGrpSpPr>
            <p:cNvPr id="103" name=""/>
            <p:cNvGrpSpPr/>
            <p:nvPr/>
          </p:nvGrpSpPr>
          <p:grpSpPr>
            <a:xfrm>
              <a:off x="4767480" y="3716280"/>
              <a:ext cx="1828800" cy="571680"/>
              <a:chOff x="4767480" y="3716280"/>
              <a:chExt cx="1828800" cy="571680"/>
            </a:xfrm>
          </p:grpSpPr>
          <p:grpSp>
            <p:nvGrpSpPr>
              <p:cNvPr id="104" name=""/>
              <p:cNvGrpSpPr/>
              <p:nvPr/>
            </p:nvGrpSpPr>
            <p:grpSpPr>
              <a:xfrm>
                <a:off x="4767480" y="3716280"/>
                <a:ext cx="1373400" cy="571680"/>
                <a:chOff x="4767480" y="3716280"/>
                <a:chExt cx="1373400" cy="5716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76748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26840" y="3716280"/>
                  <a:ext cx="45720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568404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6139080" y="371628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916360" y="3716280"/>
              <a:ext cx="1828800" cy="571680"/>
              <a:chOff x="2916360" y="3716280"/>
              <a:chExt cx="1828800" cy="5716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2916360" y="3716280"/>
                <a:ext cx="1373400" cy="571680"/>
                <a:chOff x="2916360" y="3716280"/>
                <a:chExt cx="1373400" cy="5716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291636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375720" y="3716280"/>
                  <a:ext cx="45720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383292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>
                <a:off x="4287960" y="371628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6618240" y="3716280"/>
              <a:ext cx="1828800" cy="571680"/>
              <a:chOff x="6618240" y="3716280"/>
              <a:chExt cx="1828800" cy="571680"/>
            </a:xfrm>
          </p:grpSpPr>
          <p:grpSp>
            <p:nvGrpSpPr>
              <p:cNvPr id="115" name=""/>
              <p:cNvGrpSpPr/>
              <p:nvPr/>
            </p:nvGrpSpPr>
            <p:grpSpPr>
              <a:xfrm>
                <a:off x="6618240" y="3716280"/>
                <a:ext cx="1373400" cy="571680"/>
                <a:chOff x="6618240" y="3716280"/>
                <a:chExt cx="1373400" cy="57168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61824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7077600" y="3716280"/>
                  <a:ext cx="45720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7534800" y="3716280"/>
                  <a:ext cx="456840" cy="57168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"/>
              <p:cNvSpPr/>
              <p:nvPr/>
            </p:nvSpPr>
            <p:spPr>
              <a:xfrm>
                <a:off x="7989840" y="371628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4754520" y="3284640"/>
              <a:ext cx="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604200" y="3357720"/>
              <a:ext cx="0" cy="143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492360" y="2133720"/>
            <a:ext cx="44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=(int(*)[4])malloc(sizeof(int)*3*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1916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sloup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1547640" y="1484280"/>
            <a:ext cx="648000" cy="50472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59280" y="1268280"/>
            <a:ext cx="172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sloup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20000" y="2852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řá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7179840" y="2412720"/>
            <a:ext cx="631800" cy="58428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24360" y="1628640"/>
            <a:ext cx="1727280" cy="576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4787640" y="1628640"/>
            <a:ext cx="936360" cy="576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4149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[2]=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80960" y="45766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[0]=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00" y="5013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[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]=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699160" y="378936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49417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537372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4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8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ter na po</a:t>
            </a:r>
            <a:r>
              <a:rPr b="1" lang="cs-CZ" sz="3600" spc="-1" strike="noStrike">
                <a:solidFill>
                  <a:srgbClr val="000000"/>
                </a:solidFill>
                <a:latin typeface="Tahoma"/>
              </a:rPr>
              <a:t>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979640" y="2492280"/>
            <a:ext cx="1584360" cy="649440"/>
            <a:chOff x="1979640" y="2492280"/>
            <a:chExt cx="1584360" cy="649440"/>
          </a:xfrm>
        </p:grpSpPr>
        <p:sp>
          <p:nvSpPr>
            <p:cNvPr id="140" name=""/>
            <p:cNvSpPr/>
            <p:nvPr/>
          </p:nvSpPr>
          <p:spPr>
            <a:xfrm>
              <a:off x="1979640" y="2492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09560" y="2492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36960" y="2492280"/>
              <a:ext cx="527040" cy="6494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403280" y="1700280"/>
            <a:ext cx="0" cy="460836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4360" y="1844640"/>
            <a:ext cx="4572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9800" y="5805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45840" y="58053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528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908000" y="2060640"/>
            <a:ext cx="1866960" cy="382680"/>
            <a:chOff x="1908000" y="2060640"/>
            <a:chExt cx="1866960" cy="382680"/>
          </a:xfrm>
        </p:grpSpPr>
        <p:sp>
          <p:nvSpPr>
            <p:cNvPr id="149" name=""/>
            <p:cNvSpPr/>
            <p:nvPr/>
          </p:nvSpPr>
          <p:spPr>
            <a:xfrm>
              <a:off x="1908000" y="2060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0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9040" y="20750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1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54240" y="206856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[2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211640" y="1989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(int*)malloc(sizeof(int)*5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421000"/>
            <a:ext cx="41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(int*)malloc(sizeof(int)*3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19560" y="287352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(int*)malloc(sizeof(int)*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3780000" y="5013360"/>
            <a:ext cx="2286000" cy="571320"/>
            <a:chOff x="3780000" y="5013360"/>
            <a:chExt cx="2286000" cy="571320"/>
          </a:xfrm>
        </p:grpSpPr>
        <p:grpSp>
          <p:nvGrpSpPr>
            <p:cNvPr id="156" name=""/>
            <p:cNvGrpSpPr/>
            <p:nvPr/>
          </p:nvGrpSpPr>
          <p:grpSpPr>
            <a:xfrm>
              <a:off x="3780000" y="5013360"/>
              <a:ext cx="1373400" cy="571320"/>
              <a:chOff x="3780000" y="5013360"/>
              <a:chExt cx="1373400" cy="571320"/>
            </a:xfrm>
          </p:grpSpPr>
          <p:sp>
            <p:nvSpPr>
              <p:cNvPr id="157" name=""/>
              <p:cNvSpPr/>
              <p:nvPr/>
            </p:nvSpPr>
            <p:spPr>
              <a:xfrm>
                <a:off x="3780000" y="501336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39360" y="501336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96560" y="5013360"/>
                <a:ext cx="456840" cy="57132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5608800" y="501336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51600" y="5013360"/>
              <a:ext cx="457200" cy="571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2" name=""/>
          <p:cNvCxnSpPr>
            <a:stCxn id="144" idx="3"/>
            <a:endCxn id="140" idx="1"/>
          </p:cNvCxnSpPr>
          <p:nvPr/>
        </p:nvCxnSpPr>
        <p:spPr>
          <a:xfrm>
            <a:off x="1154160" y="2130120"/>
            <a:ext cx="813600" cy="687960"/>
          </a:xfrm>
          <a:prstGeom prst="bentConnector3">
            <a:avLst>
              <a:gd name="adj1" fmla="val 49977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3" name=""/>
          <p:cNvCxnSpPr>
            <a:stCxn id="141" idx="2"/>
            <a:endCxn id="164" idx="1"/>
          </p:cNvCxnSpPr>
          <p:nvPr/>
        </p:nvCxnSpPr>
        <p:spPr>
          <a:xfrm flipH="1" rot="16200000">
            <a:off x="2593800" y="3333600"/>
            <a:ext cx="1353240" cy="9939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5" name=""/>
          <p:cNvCxnSpPr>
            <a:stCxn id="140" idx="2"/>
            <a:endCxn id="157" idx="1"/>
          </p:cNvCxnSpPr>
          <p:nvPr/>
        </p:nvCxnSpPr>
        <p:spPr>
          <a:xfrm flipH="1" rot="16200000">
            <a:off x="1931760" y="3464640"/>
            <a:ext cx="2145600" cy="15246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66" name=""/>
          <p:cNvCxnSpPr>
            <a:stCxn id="142" idx="2"/>
            <a:endCxn id="167" idx="1"/>
          </p:cNvCxnSpPr>
          <p:nvPr/>
        </p:nvCxnSpPr>
        <p:spPr>
          <a:xfrm flipH="1" rot="16200000">
            <a:off x="3253320" y="3200760"/>
            <a:ext cx="561240" cy="467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168" name=""/>
          <p:cNvGrpSpPr/>
          <p:nvPr/>
        </p:nvGrpSpPr>
        <p:grpSpPr>
          <a:xfrm>
            <a:off x="3780000" y="4221000"/>
            <a:ext cx="1373040" cy="571680"/>
            <a:chOff x="3780000" y="4221000"/>
            <a:chExt cx="1373040" cy="571680"/>
          </a:xfrm>
        </p:grpSpPr>
        <p:sp>
          <p:nvSpPr>
            <p:cNvPr id="164" name=""/>
            <p:cNvSpPr/>
            <p:nvPr/>
          </p:nvSpPr>
          <p:spPr>
            <a:xfrm>
              <a:off x="3780000" y="422100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39000" y="422100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696200" y="4221000"/>
              <a:ext cx="45684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780000" y="3429000"/>
            <a:ext cx="1828800" cy="571680"/>
            <a:chOff x="3780000" y="3429000"/>
            <a:chExt cx="1828800" cy="571680"/>
          </a:xfrm>
        </p:grpSpPr>
        <p:grpSp>
          <p:nvGrpSpPr>
            <p:cNvPr id="172" name=""/>
            <p:cNvGrpSpPr/>
            <p:nvPr/>
          </p:nvGrpSpPr>
          <p:grpSpPr>
            <a:xfrm>
              <a:off x="3780000" y="3429000"/>
              <a:ext cx="1373400" cy="571680"/>
              <a:chOff x="3780000" y="3429000"/>
              <a:chExt cx="1373400" cy="571680"/>
            </a:xfrm>
          </p:grpSpPr>
          <p:sp>
            <p:nvSpPr>
              <p:cNvPr id="167" name=""/>
              <p:cNvSpPr/>
              <p:nvPr/>
            </p:nvSpPr>
            <p:spPr>
              <a:xfrm>
                <a:off x="3780000" y="3429000"/>
                <a:ext cx="45684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39360" y="3429000"/>
                <a:ext cx="45720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96560" y="3429000"/>
                <a:ext cx="456840" cy="5716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151600" y="3429000"/>
              <a:ext cx="457200" cy="571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443640" y="4797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43640" y="5157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3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2]=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564000" y="573408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0][2]=6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16360" y="50846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564000" y="616572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[1][0]=5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80000" y="429264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3743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**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987640" y="148428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=(int*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malloc(sizeof(int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*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48360" y="907920"/>
            <a:ext cx="17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p</a:t>
            </a:r>
            <a:r>
              <a:rPr b="0" lang="en-US" sz="2000" spc="-1" strike="noStrike">
                <a:solidFill>
                  <a:srgbClr val="993300"/>
                </a:solidFill>
                <a:latin typeface="Tahoma"/>
              </a:rPr>
              <a:t>o</a:t>
            </a:r>
            <a:r>
              <a:rPr b="0" lang="cs-CZ" sz="2000" spc="-1" strike="noStrike">
                <a:solidFill>
                  <a:srgbClr val="993300"/>
                </a:solidFill>
                <a:latin typeface="Tahoma"/>
              </a:rPr>
              <a:t>čet řá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516360" y="1268280"/>
            <a:ext cx="1150920" cy="360360"/>
          </a:xfrm>
          <a:prstGeom prst="line">
            <a:avLst/>
          </a:prstGeom>
          <a:ln w="19080">
            <a:solidFill>
              <a:srgbClr val="9933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093080" y="6308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p=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56360" y="35002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156360" y="38606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1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56360" y="422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877080" y="595008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ee(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7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9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3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5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Srovná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98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tatické vícerozměrné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24360" y="1341360"/>
            <a:ext cx="0" cy="5183280"/>
          </a:xfrm>
          <a:prstGeom prst="line">
            <a:avLst/>
          </a:prstGeom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27040" y="1343160"/>
            <a:ext cx="21600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7800" y="6021360"/>
            <a:ext cx="121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Zásob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65480" y="602136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ahoma"/>
              </a:rPr>
              <a:t>Hal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3"/>
            <a:endCxn id="199" idx="1"/>
          </p:cNvCxnSpPr>
          <p:nvPr/>
        </p:nvCxnSpPr>
        <p:spPr>
          <a:xfrm>
            <a:off x="755280" y="1483920"/>
            <a:ext cx="407160" cy="42948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00" name=""/>
          <p:cNvGrpSpPr/>
          <p:nvPr/>
        </p:nvGrpSpPr>
        <p:grpSpPr>
          <a:xfrm>
            <a:off x="1174680" y="1558800"/>
            <a:ext cx="2592360" cy="747720"/>
            <a:chOff x="1174680" y="1558800"/>
            <a:chExt cx="2592360" cy="747720"/>
          </a:xfrm>
        </p:grpSpPr>
        <p:grpSp>
          <p:nvGrpSpPr>
            <p:cNvPr id="201" name=""/>
            <p:cNvGrpSpPr/>
            <p:nvPr/>
          </p:nvGrpSpPr>
          <p:grpSpPr>
            <a:xfrm>
              <a:off x="2042280" y="1771920"/>
              <a:ext cx="857160" cy="282600"/>
              <a:chOff x="2042280" y="1771920"/>
              <a:chExt cx="857160" cy="2826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2042280" y="1771920"/>
                <a:ext cx="643680" cy="282600"/>
                <a:chOff x="2042280" y="1771920"/>
                <a:chExt cx="643680" cy="28260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204228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2575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24717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2685240" y="177192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174680" y="1771920"/>
              <a:ext cx="857160" cy="282600"/>
              <a:chOff x="1174680" y="1771920"/>
              <a:chExt cx="857160" cy="28260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1174680" y="1771920"/>
                <a:ext cx="643680" cy="282600"/>
                <a:chOff x="1174680" y="1771920"/>
                <a:chExt cx="643680" cy="2826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117468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3899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16041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1817640" y="177192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2909880" y="1771920"/>
              <a:ext cx="857160" cy="282600"/>
              <a:chOff x="2909880" y="1771920"/>
              <a:chExt cx="857160" cy="282600"/>
            </a:xfrm>
          </p:grpSpPr>
          <p:grpSp>
            <p:nvGrpSpPr>
              <p:cNvPr id="213" name=""/>
              <p:cNvGrpSpPr/>
              <p:nvPr/>
            </p:nvGrpSpPr>
            <p:grpSpPr>
              <a:xfrm>
                <a:off x="2909880" y="1771920"/>
                <a:ext cx="643680" cy="282600"/>
                <a:chOff x="2909880" y="1771920"/>
                <a:chExt cx="643680" cy="282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90988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251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339360" y="177192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3552840" y="177192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2036160" y="155880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03040" y="159480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4000" y="3645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inter na p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227664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le pointer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4869000"/>
            <a:ext cx="50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ointer na po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35280" y="4214880"/>
            <a:ext cx="21564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23" idx="3"/>
            <a:endCxn id="225" idx="1"/>
          </p:cNvCxnSpPr>
          <p:nvPr/>
        </p:nvCxnSpPr>
        <p:spPr>
          <a:xfrm>
            <a:off x="2063880" y="4355640"/>
            <a:ext cx="3216960" cy="3960"/>
          </a:xfrm>
          <a:prstGeom prst="bentConnector3">
            <a:avLst>
              <a:gd name="adj1" fmla="val 49994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26" name=""/>
          <p:cNvGrpSpPr/>
          <p:nvPr/>
        </p:nvGrpSpPr>
        <p:grpSpPr>
          <a:xfrm>
            <a:off x="5292720" y="4005360"/>
            <a:ext cx="2592360" cy="747720"/>
            <a:chOff x="5292720" y="4005360"/>
            <a:chExt cx="2592360" cy="747720"/>
          </a:xfrm>
        </p:grpSpPr>
        <p:grpSp>
          <p:nvGrpSpPr>
            <p:cNvPr id="227" name=""/>
            <p:cNvGrpSpPr/>
            <p:nvPr/>
          </p:nvGrpSpPr>
          <p:grpSpPr>
            <a:xfrm>
              <a:off x="6160320" y="4218480"/>
              <a:ext cx="857160" cy="282600"/>
              <a:chOff x="6160320" y="4218480"/>
              <a:chExt cx="857160" cy="2826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6160320" y="4218480"/>
                <a:ext cx="643680" cy="282600"/>
                <a:chOff x="6160320" y="4218480"/>
                <a:chExt cx="643680" cy="2826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616032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3756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5898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803280" y="421848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5292720" y="4218480"/>
              <a:ext cx="857160" cy="282600"/>
              <a:chOff x="5292720" y="4218480"/>
              <a:chExt cx="857160" cy="28260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5292720" y="4218480"/>
                <a:ext cx="643680" cy="282600"/>
                <a:chOff x="5292720" y="4218480"/>
                <a:chExt cx="643680" cy="2826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29272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5080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222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5935680" y="421848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027920" y="4218480"/>
              <a:ext cx="857160" cy="282600"/>
              <a:chOff x="7027920" y="4218480"/>
              <a:chExt cx="857160" cy="28260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7027920" y="4218480"/>
                <a:ext cx="643680" cy="282600"/>
                <a:chOff x="7027920" y="4218480"/>
                <a:chExt cx="643680" cy="2826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702792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2432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457400" y="4218480"/>
                  <a:ext cx="214200" cy="2826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7670880" y="4218480"/>
                <a:ext cx="214200" cy="2826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54200" y="400536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21080" y="4041360"/>
              <a:ext cx="0" cy="71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627280" y="2492280"/>
            <a:ext cx="730440" cy="289080"/>
            <a:chOff x="2627280" y="2492280"/>
            <a:chExt cx="730440" cy="289080"/>
          </a:xfrm>
        </p:grpSpPr>
        <p:sp>
          <p:nvSpPr>
            <p:cNvPr id="247" name=""/>
            <p:cNvSpPr/>
            <p:nvPr/>
          </p:nvSpPr>
          <p:spPr>
            <a:xfrm>
              <a:off x="2627280" y="2492280"/>
              <a:ext cx="24300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71360" y="2492280"/>
              <a:ext cx="24300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14720" y="2492280"/>
              <a:ext cx="243000" cy="2890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1116000" y="2781360"/>
            <a:ext cx="216000" cy="28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50" idx="3"/>
            <a:endCxn id="247" idx="1"/>
          </p:cNvCxnSpPr>
          <p:nvPr/>
        </p:nvCxnSpPr>
        <p:spPr>
          <a:xfrm flipV="1">
            <a:off x="1344600" y="2636280"/>
            <a:ext cx="1270800" cy="286200"/>
          </a:xfrm>
          <a:prstGeom prst="bentConnector3">
            <a:avLst>
              <a:gd name="adj1" fmla="val 49985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52" name=""/>
          <p:cNvCxnSpPr>
            <a:stCxn id="248" idx="2"/>
            <a:endCxn id="253" idx="1"/>
          </p:cNvCxnSpPr>
          <p:nvPr/>
        </p:nvCxnSpPr>
        <p:spPr>
          <a:xfrm flipH="1" rot="16200000">
            <a:off x="3890880" y="1896480"/>
            <a:ext cx="492840" cy="2286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54" name=""/>
          <p:cNvCxnSpPr>
            <a:stCxn id="247" idx="2"/>
            <a:endCxn id="255" idx="1"/>
          </p:cNvCxnSpPr>
          <p:nvPr/>
        </p:nvCxnSpPr>
        <p:spPr>
          <a:xfrm flipH="1" rot="16200000">
            <a:off x="3551760" y="1990440"/>
            <a:ext cx="924840" cy="2531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56" name=""/>
          <p:cNvCxnSpPr>
            <a:stCxn id="249" idx="2"/>
            <a:endCxn id="257" idx="1"/>
          </p:cNvCxnSpPr>
          <p:nvPr/>
        </p:nvCxnSpPr>
        <p:spPr>
          <a:xfrm flipH="1" rot="16200000">
            <a:off x="4228920" y="1801080"/>
            <a:ext cx="59400" cy="2044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58" name=""/>
          <p:cNvGrpSpPr/>
          <p:nvPr/>
        </p:nvGrpSpPr>
        <p:grpSpPr>
          <a:xfrm>
            <a:off x="5292720" y="3141720"/>
            <a:ext cx="729720" cy="288720"/>
            <a:chOff x="5292720" y="3141720"/>
            <a:chExt cx="729720" cy="288720"/>
          </a:xfrm>
        </p:grpSpPr>
        <p:sp>
          <p:nvSpPr>
            <p:cNvPr id="253" name=""/>
            <p:cNvSpPr/>
            <p:nvPr/>
          </p:nvSpPr>
          <p:spPr>
            <a:xfrm>
              <a:off x="5292720" y="3141720"/>
              <a:ext cx="24264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36800" y="3141720"/>
              <a:ext cx="24300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79800" y="3141720"/>
              <a:ext cx="242640" cy="28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292720" y="3573360"/>
            <a:ext cx="1150920" cy="289080"/>
            <a:chOff x="5292720" y="3573360"/>
            <a:chExt cx="1150920" cy="289080"/>
          </a:xfrm>
        </p:grpSpPr>
        <p:grpSp>
          <p:nvGrpSpPr>
            <p:cNvPr id="262" name=""/>
            <p:cNvGrpSpPr/>
            <p:nvPr/>
          </p:nvGrpSpPr>
          <p:grpSpPr>
            <a:xfrm>
              <a:off x="5292720" y="3573360"/>
              <a:ext cx="729720" cy="289080"/>
              <a:chOff x="5292720" y="3573360"/>
              <a:chExt cx="729720" cy="289080"/>
            </a:xfrm>
          </p:grpSpPr>
          <p:sp>
            <p:nvSpPr>
              <p:cNvPr id="255" name=""/>
              <p:cNvSpPr/>
              <p:nvPr/>
            </p:nvSpPr>
            <p:spPr>
              <a:xfrm>
                <a:off x="5292720" y="357336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536800" y="3573360"/>
                <a:ext cx="24300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779800" y="357336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6227640" y="3573360"/>
              <a:ext cx="216000" cy="28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012000" y="3573360"/>
              <a:ext cx="215640" cy="28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92720" y="2708280"/>
            <a:ext cx="934920" cy="289080"/>
            <a:chOff x="5292720" y="2708280"/>
            <a:chExt cx="934920" cy="289080"/>
          </a:xfrm>
        </p:grpSpPr>
        <p:grpSp>
          <p:nvGrpSpPr>
            <p:cNvPr id="268" name=""/>
            <p:cNvGrpSpPr/>
            <p:nvPr/>
          </p:nvGrpSpPr>
          <p:grpSpPr>
            <a:xfrm>
              <a:off x="5292720" y="2708280"/>
              <a:ext cx="729720" cy="289080"/>
              <a:chOff x="5292720" y="2708280"/>
              <a:chExt cx="729720" cy="289080"/>
            </a:xfrm>
          </p:grpSpPr>
          <p:sp>
            <p:nvSpPr>
              <p:cNvPr id="257" name=""/>
              <p:cNvSpPr/>
              <p:nvPr/>
            </p:nvSpPr>
            <p:spPr>
              <a:xfrm>
                <a:off x="5292720" y="270828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536800" y="2708280"/>
                <a:ext cx="24300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779800" y="2708280"/>
                <a:ext cx="242640" cy="28908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6012000" y="2708280"/>
              <a:ext cx="215640" cy="282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5292720" y="4941720"/>
            <a:ext cx="729720" cy="290520"/>
            <a:chOff x="5292720" y="4941720"/>
            <a:chExt cx="729720" cy="290520"/>
          </a:xfrm>
        </p:grpSpPr>
        <p:sp>
          <p:nvSpPr>
            <p:cNvPr id="273" name=""/>
            <p:cNvSpPr/>
            <p:nvPr/>
          </p:nvSpPr>
          <p:spPr>
            <a:xfrm>
              <a:off x="5292720" y="494172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36800" y="4941720"/>
              <a:ext cx="24300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79800" y="494172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3059280" y="4941720"/>
            <a:ext cx="215640" cy="28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"/>
          <p:cNvCxnSpPr>
            <a:stCxn id="276" idx="3"/>
            <a:endCxn id="273" idx="1"/>
          </p:cNvCxnSpPr>
          <p:nvPr/>
        </p:nvCxnSpPr>
        <p:spPr>
          <a:xfrm>
            <a:off x="3287880" y="5084280"/>
            <a:ext cx="1992600" cy="396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78" name=""/>
          <p:cNvCxnSpPr>
            <a:stCxn id="274" idx="2"/>
            <a:endCxn id="279" idx="1"/>
          </p:cNvCxnSpPr>
          <p:nvPr/>
        </p:nvCxnSpPr>
        <p:spPr>
          <a:xfrm flipH="1" rot="16200000">
            <a:off x="6052320" y="4852080"/>
            <a:ext cx="635760" cy="14212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80" name=""/>
          <p:cNvCxnSpPr>
            <a:stCxn id="273" idx="2"/>
            <a:endCxn id="281" idx="1"/>
          </p:cNvCxnSpPr>
          <p:nvPr/>
        </p:nvCxnSpPr>
        <p:spPr>
          <a:xfrm flipH="1" rot="16200000">
            <a:off x="5713200" y="4945680"/>
            <a:ext cx="1067400" cy="16657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282" name=""/>
          <p:cNvCxnSpPr>
            <a:stCxn id="275" idx="2"/>
            <a:endCxn id="283" idx="1"/>
          </p:cNvCxnSpPr>
          <p:nvPr/>
        </p:nvCxnSpPr>
        <p:spPr>
          <a:xfrm flipH="1" rot="16200000">
            <a:off x="6426000" y="4720680"/>
            <a:ext cx="130680" cy="11786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arrow" w="lg"/>
          </a:ln>
        </p:spPr>
      </p:cxnSp>
      <p:grpSp>
        <p:nvGrpSpPr>
          <p:cNvPr id="284" name=""/>
          <p:cNvGrpSpPr/>
          <p:nvPr/>
        </p:nvGrpSpPr>
        <p:grpSpPr>
          <a:xfrm>
            <a:off x="7093080" y="5734080"/>
            <a:ext cx="729720" cy="290520"/>
            <a:chOff x="7093080" y="5734080"/>
            <a:chExt cx="729720" cy="290520"/>
          </a:xfrm>
        </p:grpSpPr>
        <p:sp>
          <p:nvSpPr>
            <p:cNvPr id="279" name=""/>
            <p:cNvSpPr/>
            <p:nvPr/>
          </p:nvSpPr>
          <p:spPr>
            <a:xfrm>
              <a:off x="7093080" y="573408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337160" y="5734080"/>
              <a:ext cx="24300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0160" y="5734080"/>
              <a:ext cx="242640" cy="290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7093080" y="6165720"/>
            <a:ext cx="1150920" cy="290160"/>
            <a:chOff x="7093080" y="6165720"/>
            <a:chExt cx="1150920" cy="290160"/>
          </a:xfrm>
        </p:grpSpPr>
        <p:grpSp>
          <p:nvGrpSpPr>
            <p:cNvPr id="288" name=""/>
            <p:cNvGrpSpPr/>
            <p:nvPr/>
          </p:nvGrpSpPr>
          <p:grpSpPr>
            <a:xfrm>
              <a:off x="7093080" y="6165720"/>
              <a:ext cx="729720" cy="290160"/>
              <a:chOff x="7093080" y="6165720"/>
              <a:chExt cx="729720" cy="290160"/>
            </a:xfrm>
          </p:grpSpPr>
          <p:sp>
            <p:nvSpPr>
              <p:cNvPr id="281" name=""/>
              <p:cNvSpPr/>
              <p:nvPr/>
            </p:nvSpPr>
            <p:spPr>
              <a:xfrm>
                <a:off x="7093080" y="616572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337160" y="6165720"/>
                <a:ext cx="24300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580160" y="616572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8028000" y="6165720"/>
              <a:ext cx="216000" cy="28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2360" y="6165720"/>
              <a:ext cx="215640" cy="28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7093080" y="5229360"/>
            <a:ext cx="934920" cy="290160"/>
            <a:chOff x="7093080" y="5229360"/>
            <a:chExt cx="934920" cy="290160"/>
          </a:xfrm>
        </p:grpSpPr>
        <p:grpSp>
          <p:nvGrpSpPr>
            <p:cNvPr id="294" name=""/>
            <p:cNvGrpSpPr/>
            <p:nvPr/>
          </p:nvGrpSpPr>
          <p:grpSpPr>
            <a:xfrm>
              <a:off x="7093080" y="5229360"/>
              <a:ext cx="729720" cy="290160"/>
              <a:chOff x="7093080" y="5229360"/>
              <a:chExt cx="729720" cy="290160"/>
            </a:xfrm>
          </p:grpSpPr>
          <p:sp>
            <p:nvSpPr>
              <p:cNvPr id="283" name=""/>
              <p:cNvSpPr/>
              <p:nvPr/>
            </p:nvSpPr>
            <p:spPr>
              <a:xfrm>
                <a:off x="7093080" y="522936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37160" y="5229360"/>
                <a:ext cx="24300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580160" y="5229360"/>
                <a:ext cx="242640" cy="29016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" name=""/>
            <p:cNvSpPr/>
            <p:nvPr/>
          </p:nvSpPr>
          <p:spPr>
            <a:xfrm>
              <a:off x="7812360" y="5229360"/>
              <a:ext cx="215640" cy="2836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9:55:31Z</dcterms:created>
  <dc:creator>Monika</dc:creator>
  <dc:description/>
  <dc:language>en-US</dc:language>
  <cp:lastModifiedBy>Monika</cp:lastModifiedBy>
  <dcterms:modified xsi:type="dcterms:W3CDTF">2008-03-12T21:28:04Z</dcterms:modified>
  <cp:revision>10</cp:revision>
  <dc:subject/>
  <dc:title>Vícerozměrné  dynamické pole</dc:title>
</cp:coreProperties>
</file>